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723438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706320" y="685440"/>
            <a:ext cx="54453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2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CDED436-5E00-44F4-AFBB-C3ABCCC209CE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06320" y="685800"/>
            <a:ext cx="544536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6EFEF87-1F18-4DFA-9099-045F96CBB6A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2BE-4D5B-4387-8B3C-7D9B7199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5E7-A0B4-45E4-B083-F572C24D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ECEE2-3906-4733-B42F-4FBDC006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41139-79E4-4EA3-B436-BC22CDDF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762F2-6779-45DC-9B23-A75065FF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B4356-E601-4F8F-B9B1-EB9B0608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7D8A9-DAD3-4D7E-9216-C0B993AC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051F0-103E-4ED8-8EF9-D54B9E2C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E5E97-55C8-4485-8983-B4462BB7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D9CCA-D37E-4674-B5CE-25720F17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D7EE2-6099-4B87-B972-445EA057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287E21-D9A7-4108-A2B5-B47C4125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009-3F2A-4021-AA7E-40A88966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0F1D68-E2EE-4732-80E0-31F43631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DA6070-433F-40BD-9263-1416726F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099B7E-FD32-43AA-8B44-52134718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41BAFB-1405-4EBB-B251-43AFC767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5ADCB6-8B5B-45AD-B9A9-28C0D3B6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E6C463-F63A-4738-9BC7-A0E3D90F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2EAC4F-8F22-49B9-A1D6-3AA35CC4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1AD9F8-A271-436D-9346-BA69299B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439C86-0877-43E5-8AE9-F8BCC24E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D56552-5B87-4F59-9190-E771E96D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6D4-FA4D-4C42-A544-5D23A1CE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A517AE-D66A-4B51-8DFC-509275F7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ABFE6-3072-4649-ADE2-22A0A936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0FF37-87BA-4BD5-A1A2-DA283BA6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D114D-35C7-4705-A2FA-7B12E101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F1E81-2DF8-4E2B-86FA-84F61CDD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7CF90-FFC3-4DE8-9AC2-EE6B6F9B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D7F81-5395-4645-B392-A9440B16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7AD69-B269-43ED-88A2-189FE204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3031F-C1D9-46D4-914B-4466604F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B7E37-8642-40FE-9A3E-08E32F5A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B0FB-1048-4B83-8349-314AF644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04C11-711E-40ED-9E1D-A49E10B7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09969-2CA4-4364-A56B-FCA292D4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46D74-2FD8-482E-8037-ECB0E315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B0E8B-0583-4BB7-846E-2D581703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0C8D8-8527-49A4-8313-9A87BCC4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3DF35-5943-4C67-8F4D-60F08A7F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9E13F-B9C3-45F9-9AB9-4787F285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90072-2C93-4AE3-87A1-DB05CF03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7616C-AC77-4E22-BB2B-7AFE3064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D0296-3042-4CAE-9D35-E531887D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7005-986B-438B-B343-20F8CD5D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F17B5-E3CA-46FB-B55C-D63AF40C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50AB8-1512-4A21-B95C-46FBC60D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D8D78-3EB7-4495-9612-2D76FFF1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48F44-74A6-438A-8E89-322A36D9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64979-EB0D-41F3-B1E3-13F4D79F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4935-7E50-4C38-928F-AF708380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2FDB-8FD6-4E9F-A0FC-42E99583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E150-F3A6-4E17-B2A2-28E88869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0A28-D2CF-44C9-8B16-9D3551C9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6A43-AB24-46CE-8953-186A2369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C8A-FB6A-4CD5-A509-70ECC0DC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D158-6106-4CDF-A5DC-C22008E2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4400-8805-4C33-B7F5-C01790BB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8830-05F6-4A83-85FC-6A67F07C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ED2C-2734-498E-B3E1-F3667570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3490-B34F-41E4-8412-7A71FD41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27A0-1EEF-4EA4-A138-FF8B93FD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5DD6D-95AC-4483-8CCB-DB409BD2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377BB-9A67-4845-8CFF-A93B0056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63CCB-4FF7-42D6-B677-6D5258D5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C04E6-0F85-4030-B25C-1D2BB7AA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7C8-8BF8-4228-AD45-CEE99601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0B12A-2AD3-42FE-9E56-107C98CC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633D2-DD6F-4D29-9DEC-DA450F13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70DC-D345-49FC-8A97-6C20AA20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3CF63-4B8F-479B-8F00-7D8BC0E9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13CE0-8F3F-468D-A2B5-5A062CDF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2542D-D5C6-4630-8084-2F2086B8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286F-A163-4D03-ADEA-902C6F6A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D99091-89BD-41C0-A5E0-5E8D9FA2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6F1D26-57FC-4C35-AEF5-9D299514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62CCD5-C5B3-48CE-82C9-B6008F28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3BF-3B6D-4D92-8EDD-6DA79F0E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2A3598-7D86-4D8A-B581-C488EC78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83635-9E17-4F5B-AC03-E673345D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BA8AB-8B80-47A2-9B2C-B27A4F0E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76316A-BF1A-4E45-B381-0501DDFA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51F003-39A4-42C0-9E47-5E22CEDB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3FF7A-A720-40EA-BB9C-ADF324E0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5AE435-AF6C-459D-AD4A-29BBA3E4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1D67CF-69B8-4050-B30D-B4760046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675453-7390-4405-8F06-7A946D18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82B1FF-2D0B-4C11-A2D9-162AC687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FE3C-1766-4A5F-8F36-5D65F544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9B1DA-923A-4201-81DA-519A6321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ACB6D-A990-4196-98D9-BAC45CEF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1E7C9-AE13-4E27-A57E-BEF3B571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AF7D64-8022-4D75-908D-A83DD223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8799B1-4276-4656-8F3A-48E1BFF6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C762B-0707-4FD0-82A4-05FE98B3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F653D-60BA-47BB-97E8-0E8F9E5F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85B9F5-E7DA-4E4E-950F-9FD8AC19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919F6-76D7-4585-8C7F-F2D6EA6B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77869-F365-429C-BDBA-F685B99F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120-48B5-44AC-BE12-D122A3ED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52C13-0803-4147-AE5E-22336FDA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85C612-EF11-49C5-AFC4-A5BCE58A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B89FF-9A7F-4A88-B09B-633B9165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74030-99E8-485A-9B9B-33E031F7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50814E-F3E0-46B9-AEA9-4A332831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BAE095-6F66-4EFA-815A-55F254B6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7E728-C1FE-430E-B370-641971F1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88A0EB-DEC8-470C-81DD-6A51EF89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FEA97C-2AA2-4766-8EB7-838DFB30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F96116-B1D6-4528-9AFF-BB8C04D9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02E-6AB2-4486-AA3C-F02E0FE0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A9371-5114-4231-BD87-B9624204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C437BE-87C8-462B-BB7A-65277351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F93C9-ED1B-4EAE-9615-688F9092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E2612-BA06-4C47-9E21-8B94A7ED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C3DD3-866B-47F9-9681-0826FCC7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A3259-5E21-469C-B616-F943F732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2B064-004E-4216-AA23-A7BC81EA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B4E68-034F-4EB6-8CFA-3346B8F0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DE94E-3AC2-41DD-9797-359EFA06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7C4F8-6BDE-4BE2-A2FC-BDD508A4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CAF-6358-4460-857B-CF3011E8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88C02-B789-433A-8AF7-FD2C908E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6D0FE-EBB4-4167-90B3-09C01206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08AB7-AFC2-40EC-A164-D8A311D1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CC9B1-BD96-48BC-8D58-902E2B96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4D4DE-2B7F-4B47-A3C4-7887BB39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32AE2-35CD-475B-8564-D52C743F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532B9-C682-4EE2-8171-189393C1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D0D16-B888-4894-930C-F0BE2DFC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3A2E8-D8BC-4395-8268-A18F8F4E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57023-D5EF-4E6E-97EC-114CE375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AC1-D91E-480F-A0E8-7283F94B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AEC50-B8B6-4280-8753-C7902568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D07B9-7B7F-48DC-987D-C4AA2F2F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3B4DB-7C4E-4057-83B8-208AAD58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97EC3-576A-43D3-ACF2-D8578261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82705-2938-4203-BA2A-BCA78646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1B05F-BA5F-4B77-8BA4-B5BEE4EF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0A2DB-36A5-4A58-AEE9-609B89AC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11977-661B-417E-8FEB-5003AEDB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61F76-3846-4891-A3DF-392B491B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836A7-7204-40C6-A54E-8AD4AEE0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6 - Ορθογώνιο"/>
          <p:cNvSpPr/>
          <p:nvPr/>
        </p:nvSpPr>
        <p:spPr>
          <a:xfrm>
            <a:off x="0" y="1101600"/>
            <a:ext cx="972180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7 - Ορθογώνιο"/>
          <p:cNvSpPr/>
          <p:nvPr/>
        </p:nvSpPr>
        <p:spPr>
          <a:xfrm>
            <a:off x="0" y="1143000"/>
            <a:ext cx="566640" cy="2030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8 - Ορθογώνιο"/>
          <p:cNvSpPr/>
          <p:nvPr/>
        </p:nvSpPr>
        <p:spPr>
          <a:xfrm>
            <a:off x="627120" y="1143000"/>
            <a:ext cx="9094680" cy="2030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136520"/>
            <a:ext cx="566640" cy="21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7BC1D46-E815-4AEE-8D5D-AE0A8108E824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4 - Ορθογώνιο"/>
          <p:cNvSpPr/>
          <p:nvPr/>
        </p:nvSpPr>
        <p:spPr>
          <a:xfrm>
            <a:off x="-9360" y="4081320"/>
            <a:ext cx="97218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5 - Ορθογώνιο"/>
          <p:cNvSpPr/>
          <p:nvPr/>
        </p:nvSpPr>
        <p:spPr>
          <a:xfrm>
            <a:off x="-9360" y="4162320"/>
            <a:ext cx="1555560" cy="6368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6 - Ορθογώνιο"/>
          <p:cNvSpPr/>
          <p:nvPr/>
        </p:nvSpPr>
        <p:spPr>
          <a:xfrm>
            <a:off x="1643040" y="4154400"/>
            <a:ext cx="8078760" cy="636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7 - Ορθογώνιο"/>
          <p:cNvSpPr/>
          <p:nvPr/>
        </p:nvSpPr>
        <p:spPr>
          <a:xfrm>
            <a:off x="1539720" y="0"/>
            <a:ext cx="106560" cy="61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6642000" y="5576760"/>
            <a:ext cx="283680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9"/>
          </p:nvPr>
        </p:nvSpPr>
        <p:spPr>
          <a:xfrm>
            <a:off x="-360" y="4165200"/>
            <a:ext cx="1539720" cy="592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BA1ED98-E3EA-4A86-8C0C-CF63B963A010}" type="slidenum">
              <a:rPr b="1" lang="el-G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30"/>
          </p:nvPr>
        </p:nvSpPr>
        <p:spPr>
          <a:xfrm>
            <a:off x="1701360" y="5576760"/>
            <a:ext cx="486108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0" y="1136520"/>
            <a:ext cx="566640" cy="21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33260C9-A831-46FA-B902-E13EF9F22BE7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3 - Ορθογώνιο"/>
          <p:cNvSpPr/>
          <p:nvPr/>
        </p:nvSpPr>
        <p:spPr>
          <a:xfrm>
            <a:off x="6481800" y="0"/>
            <a:ext cx="339840" cy="612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4 - Ορθογώνιο"/>
          <p:cNvSpPr/>
          <p:nvPr/>
        </p:nvSpPr>
        <p:spPr>
          <a:xfrm>
            <a:off x="6529320" y="544680"/>
            <a:ext cx="244440" cy="55767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5 - Ορθογώνιο"/>
          <p:cNvSpPr/>
          <p:nvPr/>
        </p:nvSpPr>
        <p:spPr>
          <a:xfrm>
            <a:off x="6529320" y="0"/>
            <a:ext cx="244440" cy="47628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6967080" y="5576760"/>
            <a:ext cx="23497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485640" y="5576760"/>
            <a:ext cx="5926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 rot="5400000">
            <a:off x="6413400" y="107280"/>
            <a:ext cx="476280" cy="260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9FA2D3A-16F4-40F1-B3E9-0869418C2FAD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3e1b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3 - Ορθογώνιο"/>
          <p:cNvSpPr/>
          <p:nvPr/>
        </p:nvSpPr>
        <p:spPr>
          <a:xfrm>
            <a:off x="0" y="5329080"/>
            <a:ext cx="97218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4 - Ορθογώνιο"/>
          <p:cNvSpPr/>
          <p:nvPr/>
        </p:nvSpPr>
        <p:spPr>
          <a:xfrm>
            <a:off x="-9360" y="5403960"/>
            <a:ext cx="2390760" cy="63648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5 - Ορθογώνιο"/>
          <p:cNvSpPr/>
          <p:nvPr/>
        </p:nvSpPr>
        <p:spPr>
          <a:xfrm>
            <a:off x="2508120" y="5394240"/>
            <a:ext cx="7213680" cy="636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1000" y="5416560"/>
            <a:ext cx="2187360" cy="61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16160" y="210960"/>
            <a:ext cx="623880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507160" y="202680"/>
            <a:ext cx="888840" cy="341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71B030F-7719-494B-9FC3-B9A7247247EA}" type="slidenum">
              <a:rPr b="1" lang="el-GR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136520"/>
            <a:ext cx="566640" cy="21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115B358-6B7D-4474-BC2E-A4506A2AC903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- Ορθογώνιο"/>
          <p:cNvSpPr/>
          <p:nvPr/>
        </p:nvSpPr>
        <p:spPr>
          <a:xfrm>
            <a:off x="0" y="1360440"/>
            <a:ext cx="9721800" cy="10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4 - Ορθογώνιο"/>
          <p:cNvSpPr/>
          <p:nvPr/>
        </p:nvSpPr>
        <p:spPr>
          <a:xfrm>
            <a:off x="0" y="1428840"/>
            <a:ext cx="1378080" cy="8841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5 - Ορθογώνιο"/>
          <p:cNvSpPr/>
          <p:nvPr/>
        </p:nvSpPr>
        <p:spPr>
          <a:xfrm>
            <a:off x="1459080" y="1428840"/>
            <a:ext cx="8262720" cy="8841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0" y="1563480"/>
            <a:ext cx="1378080" cy="626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2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C05B9E3-9B0D-485C-9E4F-C57BD12D98E1}" type="slidenum">
              <a:rPr b="1" lang="el-GR" sz="2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2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4"/>
          </p:nvPr>
        </p:nvSpPr>
        <p:spPr>
          <a:xfrm>
            <a:off x="0" y="1136520"/>
            <a:ext cx="566640" cy="21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BBE1509-ED90-4774-B70D-C2D494643EEB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5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7"/>
          </p:nvPr>
        </p:nvSpPr>
        <p:spPr>
          <a:xfrm>
            <a:off x="0" y="1136520"/>
            <a:ext cx="566640" cy="21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79BF2D7-FBC0-4DC4-B703-C56D3DA32480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8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0" y="1136520"/>
            <a:ext cx="566640" cy="21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F288CCC-7C19-434C-BDDB-6C00A6D221C4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0" y="5576760"/>
            <a:ext cx="566640" cy="341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6D60585-3094-4B67-A973-85E4482B38B0}" type="slidenum">
              <a:rPr b="1" lang="el-G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0" y="1136520"/>
            <a:ext cx="566640" cy="21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DFBA0CC-CEAD-4842-87E0-B5E4A11540BF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c03.deviantart.net/fs71/i/2014/028/4/6/the_art_of_problem_solving_by_fylwind-d746xh2.pn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s://encrypted-tbn0.gstatic.com/images?q=tbn:ANd9GcRwzYKtuXqPi4QGfadeR_P3hwLuZnxjgTbQXBMj02rJsyYBSz4-TA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isiblethinkingpz.org/VisibleThinking_html_files/03_ThinkingRoutines/03c_CoreRoutines.html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s://www.goodreads.com/author/show/1938.Friedrich_Nietzsche" TargetMode="External"/><Relationship Id="rId3" Type="http://schemas.openxmlformats.org/officeDocument/2006/relationships/hyperlink" Target="https://www.goodreads.com/author/show/81803.Stella_Adler" TargetMode="External"/><Relationship Id="rId4" Type="http://schemas.openxmlformats.org/officeDocument/2006/relationships/hyperlink" Target="https://www.goodreads.com/author/show/52760.Frida_Kahlo" TargetMode="External"/><Relationship Id="rId5" Type="http://schemas.openxmlformats.org/officeDocument/2006/relationships/hyperlink" Target="https://www.goodreads.com/author/show/5217.George_Bernard_Shaw" TargetMode="External"/><Relationship Id="rId6" Type="http://schemas.openxmlformats.org/officeDocument/2006/relationships/hyperlink" Target="https://www.goodreads.com/author/show/1221698.Neil_Gaiman" TargetMode="External"/><Relationship Id="rId7" Type="http://schemas.openxmlformats.org/officeDocument/2006/relationships/hyperlink" Target="https://www.goodreads.com/work/quotes/21500681" TargetMode="External"/><Relationship Id="rId8" Type="http://schemas.openxmlformats.org/officeDocument/2006/relationships/hyperlink" Target="https://www.goodreads.com/author/show/159.Henry_James" TargetMode="External"/><Relationship Id="rId9" Type="http://schemas.openxmlformats.org/officeDocument/2006/relationships/hyperlink" Target="https://www.goodreads.com/work/quotes/132296" TargetMode="External"/><Relationship Id="rId10" Type="http://schemas.openxmlformats.org/officeDocument/2006/relationships/hyperlink" Target="https://www.goodreads.com/author/show/140943.Georgia_O_Keeffe" TargetMode="External"/><Relationship Id="rId1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goodreads.com/author/show/1203.Andy_Warhol" TargetMode="External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xietytopeace.com/wp-content/uploads/2013/09/Man-For-Leslie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pixabay.com/static/uploads/photo/2013/01/11/10/21/creativity-74591_640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2007.eurac.edu/en/research/institutes/centerofbiomedicine/research/Bioinformatics/PublishingImages/olfactomedin_cTerm_cleft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ractal.fractalenlighten.netdna-cdn.com/wp-content/uploads/2008/06/Japan-artist-Kumi-Yamashita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humb101.shutterstock.com/display_pic_with_logo/2117717/197497217/stock-photo-mullti-ethnic-group-of-people-talking-and-using-communication-device-197497217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1260000" y="614880"/>
            <a:ext cx="6769440" cy="859680"/>
          </a:xfrm>
          <a:prstGeom prst="rect">
            <a:avLst/>
          </a:prstGeom>
          <a:solidFill>
            <a:srgbClr val="bfd3e4"/>
          </a:solidFill>
          <a:ln w="19080">
            <a:solidFill>
              <a:srgbClr val="94b6d2"/>
            </a:solidFill>
            <a:miter/>
          </a:ln>
        </p:spPr>
        <p:txBody>
          <a:bodyPr lIns="86400" rIns="86400" tIns="43200" bIns="432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90b"/>
                </a:solidFill>
                <a:latin typeface="Constantia"/>
              </a:rPr>
              <a:t>Art in Education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511360" y="5400720"/>
            <a:ext cx="7129440" cy="611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513e1b"/>
                </a:solidFill>
                <a:latin typeface="Calibri"/>
              </a:rPr>
              <a:t>26/2/15   1</a:t>
            </a:r>
            <a:r>
              <a:rPr b="1" lang="el-GR" sz="1600" spc="-1" strike="noStrike" baseline="30000">
                <a:solidFill>
                  <a:srgbClr val="513e1b"/>
                </a:solidFill>
                <a:latin typeface="Calibri"/>
              </a:rPr>
              <a:t>ο</a:t>
            </a:r>
            <a:r>
              <a:rPr b="1" lang="el-GR" sz="1600" spc="-1" strike="noStrike">
                <a:solidFill>
                  <a:srgbClr val="513e1b"/>
                </a:solidFill>
                <a:latin typeface="Calibri"/>
              </a:rPr>
              <a:t> ΓΕ.Λ. Βύρωνα,  Νηστικάκη Ανδρονίκη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7" name="3 - Εικόνα" descr="capture-20120414-004405.png"/>
          <p:cNvPicPr/>
          <p:nvPr/>
        </p:nvPicPr>
        <p:blipFill>
          <a:blip r:embed="rId1"/>
          <a:stretch/>
        </p:blipFill>
        <p:spPr>
          <a:xfrm>
            <a:off x="1260360" y="2124000"/>
            <a:ext cx="64771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Problem solving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6" name="4 - Ορθογώνιο"/>
          <p:cNvSpPr/>
          <p:nvPr/>
        </p:nvSpPr>
        <p:spPr>
          <a:xfrm>
            <a:off x="1116000" y="5505480"/>
            <a:ext cx="748980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fc03.deviantart.net/fs71/i/2014/028/4/6/the_art_of_problem_solving_by_fylwind-d746xh2.p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5 - Εικόνα" descr="the_art_of_problem_solving_by_fylwind-d746xh2.png"/>
          <p:cNvPicPr/>
          <p:nvPr/>
        </p:nvPicPr>
        <p:blipFill>
          <a:blip r:embed="rId2"/>
          <a:stretch/>
        </p:blipFill>
        <p:spPr>
          <a:xfrm>
            <a:off x="1547640" y="2773440"/>
            <a:ext cx="2743200" cy="243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8" name="6 - Εικόνα" descr="images problem solvin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2916360"/>
            <a:ext cx="3168720" cy="23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Empathy developmen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40" name="3 - Εικόνα" descr="colourful-helping-hands-teamwork-4148896.jpg"/>
          <p:cNvPicPr/>
          <p:nvPr/>
        </p:nvPicPr>
        <p:blipFill>
          <a:blip r:embed="rId1"/>
          <a:stretch/>
        </p:blipFill>
        <p:spPr>
          <a:xfrm>
            <a:off x="2413080" y="2484360"/>
            <a:ext cx="4535280" cy="349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5d7e"/>
                </a:solidFill>
                <a:latin typeface="Tw Cen MT"/>
              </a:rPr>
              <a:t>“</a:t>
            </a:r>
            <a:r>
              <a:rPr b="0" lang="en-US" sz="3200" spc="-1" strike="noStrike">
                <a:solidFill>
                  <a:srgbClr val="355d7e"/>
                </a:solidFill>
                <a:latin typeface="Tw Cen MT"/>
              </a:rPr>
              <a:t>Transformative Learning through Aesthetic Experience” (Kokkos, 2010)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47280" y="1418760"/>
            <a:ext cx="4132440" cy="4305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86400" rIns="86400" tIns="43200" bIns="43200" anchor="t">
            <a:normAutofit fontScale="96000"/>
          </a:bodyPr>
          <a:p>
            <a:pPr marL="287640" indent="-28764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rst stage: Determination of the need to critically and creatively examine a to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640" indent="-28764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cond stage: The participants express their ideas about the to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640" indent="-28764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rd stage: Identification of critical questions that should be approac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640" indent="-28764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640" indent="-28764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7640" indent="-28764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5151600" y="1418760"/>
            <a:ext cx="4130640" cy="4305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86400" rIns="86400" tIns="43200" bIns="43200" anchor="t">
            <a:normAutofit/>
          </a:bodyPr>
          <a:p>
            <a:pPr marL="299880" indent="-29988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urth stage: Selecting works of art and linking them to the critical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9880" indent="-29988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fth stage: Elaborating the works of art and linking them to the critical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9880" indent="-29988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xth stage: Reflection on the exper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9880" indent="-29988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880" indent="-29988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880" indent="-29988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66640" y="244440"/>
            <a:ext cx="8669520" cy="77616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200" spc="-1" strike="noStrike">
                <a:solidFill>
                  <a:srgbClr val="355d7e"/>
                </a:solidFill>
                <a:latin typeface="Tw Cen MT"/>
              </a:rPr>
              <a:t>Other models to approach ar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39640" y="1765080"/>
            <a:ext cx="4321440" cy="421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86400" rIns="86400" tIns="43200" bIns="43200" anchor="t">
            <a:normAutofit fontScale="98000"/>
          </a:bodyPr>
          <a:p>
            <a:pPr marL="293760" indent="-293760" algn="ctr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b3d17"/>
                </a:solidFill>
                <a:latin typeface="Tw Cen MT"/>
              </a:rPr>
              <a:t>“</a:t>
            </a:r>
            <a:r>
              <a:rPr b="0" lang="en-US" sz="2700" spc="-1" strike="noStrike">
                <a:solidFill>
                  <a:srgbClr val="7b3d17"/>
                </a:solidFill>
                <a:latin typeface="Tw Cen MT"/>
              </a:rPr>
              <a:t>Learning to think by looking at Art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Looking time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roadening observation and “invisible” sides (symbolisms, surprise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eper explo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olistic, reflective recapitu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103360" y="1907640"/>
            <a:ext cx="4132440" cy="403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txBody>
          <a:bodyPr lIns="86400" rIns="86400" tIns="43200" bIns="43200" anchor="t">
            <a:normAutofit fontScale="97000"/>
          </a:bodyPr>
          <a:p>
            <a:pPr marL="290880" indent="-29088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 “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Visible Thinking is a systematic research-based approach to integrating the development of students' thinking with content learning across the subject matters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880" indent="-29088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visiblethinkingpz.org/VisibleThinking_html_files/03_ThinkingRoutines/03c_CoreRoutines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188720"/>
            <a:ext cx="4132440" cy="5713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 algn="ctr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erkin’s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76360" y="1188720"/>
            <a:ext cx="4132440" cy="5713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86400" rIns="86400" tIns="43200" bIns="43200" anchor="ctr">
            <a:normAutofit fontScale="92000"/>
          </a:bodyPr>
          <a:p>
            <a:pPr indent="0" algn="ctr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Visible thinking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Quotations on Ar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50" name="3 - Εικόνα" descr="κατάλογος.jpg"/>
          <p:cNvPicPr/>
          <p:nvPr/>
        </p:nvPicPr>
        <p:blipFill>
          <a:blip r:embed="rId1"/>
          <a:stretch/>
        </p:blipFill>
        <p:spPr>
          <a:xfrm>
            <a:off x="-23760" y="235260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551" name="4 - Εικόνα" descr="c333e8e93fcb18ae992c639b35398222.jpg"/>
          <p:cNvPicPr/>
          <p:nvPr/>
        </p:nvPicPr>
        <p:blipFill>
          <a:blip r:embed="rId2"/>
          <a:stretch/>
        </p:blipFill>
        <p:spPr>
          <a:xfrm>
            <a:off x="3333600" y="2541600"/>
            <a:ext cx="2695680" cy="2835360"/>
          </a:xfrm>
          <a:prstGeom prst="rect">
            <a:avLst/>
          </a:prstGeom>
          <a:ln w="0">
            <a:noFill/>
          </a:ln>
        </p:spPr>
      </p:pic>
      <p:pic>
        <p:nvPicPr>
          <p:cNvPr id="552" name="5 - Εικόνα" descr="http___www.pixteller.com_pdata_t_l-55957.jpg"/>
          <p:cNvPicPr/>
          <p:nvPr/>
        </p:nvPicPr>
        <p:blipFill>
          <a:blip r:embed="rId3"/>
          <a:stretch/>
        </p:blipFill>
        <p:spPr>
          <a:xfrm>
            <a:off x="5810400" y="2206800"/>
            <a:ext cx="3790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1 - Ορθογώνιο" descr=""/>
          <p:cNvPicPr/>
          <p:nvPr/>
        </p:nvPicPr>
        <p:blipFill>
          <a:blip r:embed="rId1"/>
          <a:stretch/>
        </p:blipFill>
        <p:spPr>
          <a:xfrm>
            <a:off x="304920" y="139680"/>
            <a:ext cx="5694120" cy="1579680"/>
          </a:xfrm>
          <a:prstGeom prst="rect">
            <a:avLst/>
          </a:prstGeom>
          <a:ln w="0">
            <a:noFill/>
          </a:ln>
        </p:spPr>
      </p:pic>
      <p:sp>
        <p:nvSpPr>
          <p:cNvPr id="554" name="2 - Ορθογώνιο"/>
          <p:cNvSpPr/>
          <p:nvPr/>
        </p:nvSpPr>
        <p:spPr>
          <a:xfrm>
            <a:off x="4429080" y="1476360"/>
            <a:ext cx="4861080" cy="648720"/>
          </a:xfrm>
          <a:prstGeom prst="rect">
            <a:avLst/>
          </a:prstGeom>
          <a:solidFill>
            <a:srgbClr val="cbd9d5"/>
          </a:solidFill>
          <a:ln w="10080">
            <a:solidFill>
              <a:srgbClr val="7ba79d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We have art in order not to die of the truth.”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―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riedrich Nietzsch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3 - Ορθογώνιο"/>
          <p:cNvSpPr/>
          <p:nvPr/>
        </p:nvSpPr>
        <p:spPr>
          <a:xfrm>
            <a:off x="181080" y="2700360"/>
            <a:ext cx="4860720" cy="2167560"/>
          </a:xfrm>
          <a:prstGeom prst="rect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Style is the answer to everything.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A fresh way to approach a dull or dangerous thing.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To do a dull thing with style is preferable to doing a dangerous thing without it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To do a dangerous thing with style is what I call ar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Charles Bukows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4 - Ορθογώνιο"/>
          <p:cNvSpPr/>
          <p:nvPr/>
        </p:nvSpPr>
        <p:spPr>
          <a:xfrm>
            <a:off x="539640" y="1692360"/>
            <a:ext cx="3600720" cy="116712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life beats down and crushes the soul and art reminds you that you have one”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―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3"/>
              </a:rPr>
              <a:t>Stella Adl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5 - Ορθογώνιο"/>
          <p:cNvSpPr/>
          <p:nvPr/>
        </p:nvSpPr>
        <p:spPr>
          <a:xfrm>
            <a:off x="5365800" y="2197080"/>
            <a:ext cx="4140000" cy="9079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I don't paint dreams or nightmares, I paint my own reality.”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―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4"/>
              </a:rPr>
              <a:t>Frida Kahl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6 - Ορθογώνιο"/>
          <p:cNvSpPr/>
          <p:nvPr/>
        </p:nvSpPr>
        <p:spPr>
          <a:xfrm>
            <a:off x="6229440" y="252360"/>
            <a:ext cx="3276360" cy="116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0" lang="en-US" sz="1700" spc="-1" strike="noStrike">
                <a:solidFill>
                  <a:srgbClr val="ffffff"/>
                </a:solidFill>
                <a:latin typeface="Tw Cen MT"/>
              </a:rPr>
              <a:t>Without art, the crudeness of reality would make the world unbearable.” 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w Cen MT"/>
              </a:rPr>
              <a:t>―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5"/>
              </a:rPr>
              <a:t>George Bernard Sha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7 - Ορθογώνιο"/>
          <p:cNvSpPr/>
          <p:nvPr/>
        </p:nvSpPr>
        <p:spPr>
          <a:xfrm>
            <a:off x="5221440" y="3205080"/>
            <a:ext cx="3779640" cy="1721880"/>
          </a:xfrm>
          <a:prstGeom prst="rect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I make art, sometimes I make true art, and sometimes it fills the empty places in my life. Some of them. Not all.”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―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6"/>
              </a:rPr>
              <a:t>Neil Gaiman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7"/>
              </a:rPr>
              <a:t>The Ocean at the End of the Lane</a:t>
            </a:r>
            <a:r>
              <a:rPr b="0" i="1" lang="en-US" sz="1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8 - Ορθογώνιο"/>
          <p:cNvSpPr/>
          <p:nvPr/>
        </p:nvSpPr>
        <p:spPr>
          <a:xfrm>
            <a:off x="4573440" y="4716360"/>
            <a:ext cx="4861080" cy="1426320"/>
          </a:xfrm>
          <a:prstGeom prst="rect">
            <a:avLst/>
          </a:prstGeom>
          <a:solidFill>
            <a:srgbClr val="d8dacd"/>
          </a:solidFill>
          <a:ln w="10080">
            <a:solidFill>
              <a:srgbClr val="a5ab81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We work in the dark - we do what we can - we give what we have. Our doubt is our passion, and our passion is our task. The rest is the madness of art.”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―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8"/>
              </a:rPr>
              <a:t>Henry James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9"/>
              </a:rPr>
              <a:t>The Middle Years</a:t>
            </a:r>
            <a:r>
              <a:rPr b="0" i="1" lang="en-US" sz="1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9 - Ορθογώνιο"/>
          <p:cNvSpPr/>
          <p:nvPr/>
        </p:nvSpPr>
        <p:spPr>
          <a:xfrm>
            <a:off x="181080" y="4645080"/>
            <a:ext cx="4103640" cy="1426320"/>
          </a:xfrm>
          <a:prstGeom prst="rect">
            <a:avLst/>
          </a:prstGeom>
          <a:solidFill>
            <a:srgbClr val="968c8c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0" lang="en-US" sz="1700" spc="-1" strike="noStrike">
                <a:solidFill>
                  <a:srgbClr val="ffffff"/>
                </a:solidFill>
                <a:latin typeface="Tw Cen MT"/>
              </a:rPr>
              <a:t>I found I could say things with color and shapes that I couldn't say any other way... things I had no words for.” 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w Cen MT"/>
              </a:rPr>
              <a:t>―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10"/>
              </a:rPr>
              <a:t>Georgia O'Keeff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1 - Θέση κειμένου" descr=""/>
          <p:cNvPicPr/>
          <p:nvPr/>
        </p:nvPicPr>
        <p:blipFill>
          <a:blip r:embed="rId1"/>
          <a:stretch/>
        </p:blipFill>
        <p:spPr>
          <a:xfrm>
            <a:off x="304920" y="2548080"/>
            <a:ext cx="9107280" cy="35542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Useful Resources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96720" y="4789440"/>
            <a:ext cx="86695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Tw Cen MT"/>
              </a:rPr>
              <a:t>Thanks for being here 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65" name="Picture 2" descr="J:\ΕΙΚΟΝΕΣ HUMAN DIVERSITY\4152.jpg"/>
          <p:cNvPicPr/>
          <p:nvPr/>
        </p:nvPicPr>
        <p:blipFill>
          <a:blip r:embed="rId1"/>
          <a:stretch/>
        </p:blipFill>
        <p:spPr>
          <a:xfrm>
            <a:off x="2916360" y="612720"/>
            <a:ext cx="3682800" cy="406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1 - Ορθογώνιο"/>
          <p:cNvSpPr/>
          <p:nvPr/>
        </p:nvSpPr>
        <p:spPr>
          <a:xfrm>
            <a:off x="900000" y="2340000"/>
            <a:ext cx="7489800" cy="26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Andalus"/>
                <a:ea typeface="Andalus"/>
              </a:rPr>
              <a:t>“</a:t>
            </a:r>
            <a:r>
              <a:rPr b="0" lang="en-US" sz="4000" spc="-1" strike="noStrike">
                <a:solidFill>
                  <a:srgbClr val="0d0d0d"/>
                </a:solidFill>
                <a:latin typeface="Andalus"/>
                <a:ea typeface="Andalus"/>
              </a:rPr>
              <a:t>The mystery was gone but the amazement was just starting.” </a:t>
            </a:r>
            <a:br>
              <a:rPr sz="4000"/>
            </a:br>
            <a:r>
              <a:rPr b="0" lang="en-US" sz="4000" spc="-1" strike="noStrike" u="sng">
                <a:solidFill>
                  <a:srgbClr val="f7b615"/>
                </a:solidFill>
                <a:uFillTx/>
                <a:latin typeface="Tw Cen MT"/>
                <a:ea typeface="Andalus"/>
                <a:hlinkClick r:id="rId1"/>
              </a:rPr>
              <a:t>Andy Warh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899640" y="2555640"/>
            <a:ext cx="8137800" cy="338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txBody>
          <a:bodyPr lIns="86400" rIns="86400" tIns="43200" bIns="43200" anchor="t">
            <a:normAutofit/>
          </a:bodyPr>
          <a:p>
            <a:pPr indent="0" algn="ctr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815"/>
                </a:solidFill>
                <a:latin typeface="Tw Cen MT"/>
              </a:rPr>
              <a:t>The transformative and healing power of     ar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815"/>
                </a:solidFill>
                <a:latin typeface="Tw Cen MT"/>
              </a:rPr>
              <a:t>Exploration of inner self and the outside wor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815"/>
                </a:solidFill>
                <a:latin typeface="Tw Cen MT"/>
              </a:rPr>
              <a:t>Emergence and Development of life skil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815"/>
                </a:solidFill>
                <a:latin typeface="Tw Cen MT"/>
              </a:rPr>
              <a:t>Outlet for emotions and ideas not easily expressed otherwi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815"/>
                </a:solidFill>
                <a:latin typeface="Tw Cen MT"/>
              </a:rPr>
              <a:t>Thinking and acting “outside the box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Art in Education. Why?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28720" y="324000"/>
            <a:ext cx="7848720" cy="88416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55d7e"/>
                </a:solidFill>
                <a:latin typeface="Tw Cen MT"/>
              </a:rPr>
              <a:t>Why Art Education is importan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22" name="Why Art Education is Important (1).wmv" descr=""/>
          <p:cNvPicPr/>
          <p:nvPr/>
        </p:nvPicPr>
        <p:blipFill>
          <a:blip r:embed="rId1"/>
          <a:stretch/>
        </p:blipFill>
        <p:spPr>
          <a:xfrm>
            <a:off x="973080" y="1630440"/>
            <a:ext cx="763272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8720" y="468360"/>
            <a:ext cx="7848720" cy="88416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55d7e"/>
                </a:solidFill>
                <a:latin typeface="Tw Cen MT"/>
              </a:rPr>
              <a:t>The importance of Art Education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24" name="The Importance of Art Education.wmv" descr=""/>
          <p:cNvPicPr/>
          <p:nvPr/>
        </p:nvPicPr>
        <p:blipFill>
          <a:blip r:embed="rId1"/>
          <a:stretch/>
        </p:blipFill>
        <p:spPr>
          <a:xfrm>
            <a:off x="1260360" y="1908000"/>
            <a:ext cx="7272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Self expression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26" name="3 - Εικόνα" descr="Man-For-Lesl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556000"/>
            <a:ext cx="3434040" cy="33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7" name="5 - Εικόνα" descr="creativity-74591_64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3080" y="2484360"/>
            <a:ext cx="4876920" cy="344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Experimentation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29" name="3 - Εικόνα" descr="olfactomedin_cTerm_cleft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5440" y="2484360"/>
            <a:ext cx="6551640" cy="342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Creativity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31" name="3 - Εικόνα" descr="Japan-artist-Kumi-Yamashit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9080" y="2413080"/>
            <a:ext cx="7331040" cy="3533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Communication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33" name="3 - Εικόνα" descr="stock-photo-mullti-ethnic-group-of-people-talking-and-using-communication-device-1974972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2773440"/>
            <a:ext cx="345600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4" name="4 - Εικόνα" descr="rijzXBjiR.png"/>
          <p:cNvPicPr/>
          <p:nvPr/>
        </p:nvPicPr>
        <p:blipFill>
          <a:blip r:embed="rId3"/>
          <a:stretch/>
        </p:blipFill>
        <p:spPr>
          <a:xfrm>
            <a:off x="612720" y="2197080"/>
            <a:ext cx="42465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2T12:03:18Z</dcterms:created>
  <dc:creator>NIKH</dc:creator>
  <dc:description/>
  <dc:language>en-US</dc:language>
  <cp:lastModifiedBy>USER</cp:lastModifiedBy>
  <dcterms:modified xsi:type="dcterms:W3CDTF">2015-02-23T21:25:58Z</dcterms:modified>
  <cp:revision>25</cp:revision>
  <dc:subject/>
  <dc:title>H τέχνη στην εκπαίδευση</dc:title>
</cp:coreProperties>
</file>